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A04-7C68-4F19-8C4F-C7C8A70D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B4E-EA4B-4869-9BC1-40DADF5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6B9-496D-486B-979D-15856A96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AF3-2CCD-45E6-8586-02080742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9D8-C691-43ED-824F-E7F2249A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D5D-3B79-44A7-9E06-C9C8E823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71D-4EC8-4A87-92AB-F310D316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544-10FF-40DB-99DF-7A80C73E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281-FD83-459F-884A-0CA7894A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3F5-AEE9-42DF-B68F-9E8CE1BE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957-358F-4615-8C63-33A3C44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BBF-5398-4871-8A67-294EABB9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EDF4-800A-4C86-AFDA-86DD51878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Techniqu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33600" y="838080"/>
            <a:ext cx="555300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 Supply the missing word o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0360" y="2057400"/>
            <a:ext cx="6767640" cy="2517120"/>
            <a:chOff x="90360" y="2057400"/>
            <a:chExt cx="6767640" cy="251712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0" t="0" r="78762" b="66908"/>
            <a:stretch/>
          </p:blipFill>
          <p:spPr>
            <a:xfrm>
              <a:off x="250920" y="2087640"/>
              <a:ext cx="1090440" cy="30780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90360" y="2467080"/>
              <a:ext cx="6753240" cy="196380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rcRect l="30564" t="0" r="35542" b="66908"/>
            <a:stretch/>
          </p:blipFill>
          <p:spPr>
            <a:xfrm>
              <a:off x="2314440" y="2065320"/>
              <a:ext cx="1890720" cy="33804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48" name="" descr=""/>
            <p:cNvPicPr/>
            <p:nvPr/>
          </p:nvPicPr>
          <p:blipFill>
            <a:blip r:embed="rId5"/>
            <a:srcRect l="66158" t="0" r="0" b="62764"/>
            <a:stretch/>
          </p:blipFill>
          <p:spPr>
            <a:xfrm>
              <a:off x="5180040" y="2057400"/>
              <a:ext cx="1677960" cy="33804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2887560" y="2590920"/>
              <a:ext cx="916200" cy="323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13040" y="2925720"/>
              <a:ext cx="744480" cy="254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84400" y="3179880"/>
              <a:ext cx="74628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87560" y="3537000"/>
              <a:ext cx="91620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39880" y="3946680"/>
              <a:ext cx="917640" cy="25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13040" y="4202280"/>
              <a:ext cx="917640" cy="253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12920" y="4114800"/>
              <a:ext cx="5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2640" y="3886200"/>
              <a:ext cx="48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23920" y="2819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14440" y="304812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74840" y="34290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6800" y="2514600"/>
              <a:ext cx="63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9560" y="1447920"/>
            <a:ext cx="555336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 Supply the missing word or phr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5400" y="2990880"/>
            <a:ext cx="7296120" cy="2038320"/>
            <a:chOff x="95400" y="2990880"/>
            <a:chExt cx="7296120" cy="2038320"/>
          </a:xfrm>
        </p:grpSpPr>
        <p:pic>
          <p:nvPicPr>
            <p:cNvPr id="64" name="" descr=""/>
            <p:cNvPicPr/>
            <p:nvPr/>
          </p:nvPicPr>
          <p:blipFill>
            <a:blip r:embed="rId2"/>
            <a:srcRect l="0" t="0" r="81306" b="66908"/>
            <a:stretch/>
          </p:blipFill>
          <p:spPr>
            <a:xfrm>
              <a:off x="696960" y="2990880"/>
              <a:ext cx="1111320" cy="41436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95400" y="3483000"/>
              <a:ext cx="7284960" cy="154620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rcRect l="31410" t="0" r="35542" b="65872"/>
            <a:stretch/>
          </p:blipFill>
          <p:spPr>
            <a:xfrm>
              <a:off x="2857680" y="2998800"/>
              <a:ext cx="1914480" cy="41760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65697" t="0" r="0" b="66908"/>
            <a:stretch/>
          </p:blipFill>
          <p:spPr>
            <a:xfrm>
              <a:off x="5448240" y="3022560"/>
              <a:ext cx="1943280" cy="39528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sp>
          <p:nvSpPr>
            <p:cNvPr id="68" name=""/>
            <p:cNvSpPr/>
            <p:nvPr/>
          </p:nvSpPr>
          <p:spPr>
            <a:xfrm>
              <a:off x="4834080" y="3863880"/>
              <a:ext cx="801720" cy="32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34080" y="4562640"/>
              <a:ext cx="801720" cy="314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9200" y="449748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80988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9T11:27:18Z</dcterms:modified>
  <cp:revision>11</cp:revision>
  <dc:subject/>
  <dc:title>Slide 1</dc:title>
</cp:coreProperties>
</file>